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EE6-E734-43F4-A320-2D47FD6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6D3-DDC7-49E2-9219-5DECFA06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153-5413-4C19-B87C-8951B76E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2B4-360E-4FF3-854B-2D03AED0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4D9-83D7-45CF-92FA-7EBBB7B2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54C-C70F-4DB2-81AA-B1D60DE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99B-02FE-4B4F-A662-F5748C9F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856-9FD0-4D20-A2E9-EA0B62C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E11-0745-4ACE-9E31-1AE0FFD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F26-A76E-4BAB-930D-C4A5FDD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AC5-D9A1-4498-8914-77C7225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751-D38B-4E3B-BFF2-818D92E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B12-D411-4C30-BCBD-25374AFA01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jskidd</cp:lastModifiedBy>
  <dcterms:modified xsi:type="dcterms:W3CDTF">2009-11-13T20:14:20Z</dcterms:modified>
  <cp:revision>8</cp:revision>
  <dc:subject/>
  <dc:title>Password</dc:title>
</cp:coreProperties>
</file>